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B976-D23F-4F61-956F-A41379D4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8BB-2673-4E18-99F7-5D194F64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103-88D0-4746-9DC7-CBB4A780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E25-CB54-4C98-B7D5-2CBA8363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5AA-9AF5-4526-AC7F-9934BF60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9EE-AE56-4647-A87A-F88B5FC0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1380-35DF-401B-BAA2-9C47462E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638-8BB0-468F-806B-5699CE71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DF5-5D51-4AD7-BFFB-9E94272E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B1EC-DF8F-40F7-9165-DD7698FC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9D7-1094-4AD5-9B75-5C562009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297-7BBE-4BB3-9B30-6A936862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B7DA-6F4B-4391-871E-CA392A32A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19960" y="14292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Anhafaledda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57120" y="641520"/>
            <a:ext cx="8501040" cy="69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22. (a) 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(i) Datryswch yr anhafaledd n + 6 &lt; 3n – 5.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2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ii) Ysgrifennwch y rhif cyfan mwyaf sy’n bodloni’r anhafaledd hwn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3. (a)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i) Datryswch yr a hafaledd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7x – 3 &lt; 14 + 4x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[2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ii) Ysgrifennwch y rhif cyfan lleiaf sy’n bodloni’r anhafaledd hwn.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i) Datryswch yr anhafaledd  8x + 11 &gt; 2x – 13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[2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ii) Ysgrifennwch werth cyfanrifol lleiaf x sy’n bodloni’r anhafaledd hwn. [1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d-drefnwch yr anhafaledd 3 – 3n &lt; 9 – 5n ar y ffurf n &lt; rhyw rif.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    [2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 wybod bod n hefyd yn bodloni’r anhafaledd 3n &gt; -6, ysgrifennwch ho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rthoedd cyfanrifol n sy’n bodloni’r ddau anhafaledd.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                    [2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a)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luniwch echelinau y o -6 i 10 ac echelinau x o -4 i 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b)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 yr echelinau, lluniwch y rhanbarth sy’n bodloni pob un o’r anhafaleddau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anlynol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x  ≤ 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  ≥  -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  ≤  3x –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Gwnewch yn siwr eich bod yn dangos yn glir y rhanbarth sy’n cynrychioli eich ate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22:42:07Z</dcterms:created>
  <dc:creator>catrin</dc:creator>
  <dc:description/>
  <dc:language>en-US</dc:language>
  <cp:lastModifiedBy>catrin</cp:lastModifiedBy>
  <dcterms:modified xsi:type="dcterms:W3CDTF">2008-01-16T23:21:01Z</dcterms:modified>
  <cp:revision>4</cp:revision>
  <dc:subject/>
  <dc:title>Slide 1</dc:title>
</cp:coreProperties>
</file>